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1EF-FDEE-4639-ABDF-3378F660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9B9-3937-4507-B1CB-AC415C30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F23-13FF-47C2-87ED-5D511059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96D-4614-46EF-A037-D4026E3E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5A3-5499-4550-A34D-6D5C8605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C71-DFAA-4A73-B6F4-B426E4AD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B94-8025-4A3B-945B-FBD25913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FB7-FE97-470A-AF61-F174F5B6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CEE-08A7-4228-AB13-E0F3E54B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E4F-BB9A-43EA-8F69-5BD4DCC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2FA-77D2-42C2-A92A-C7CC90C2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778-3602-43F2-9E08-828E6C2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11CB-B66D-420D-92E9-EC96FF242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ssil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fossi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ssil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rved remains or traces of living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ssils form when living things die and are buried by sed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36960" y="304920"/>
            <a:ext cx="406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52280" y="685800"/>
            <a:ext cx="883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ologic Reco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history of an area as shown by rock lay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aw of Superposi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n horizontal sedimentary rock layers, the oldest layer is at the bottom, each higher layer is younger than the layers below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tru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gneous rock that hardens on the surface – layers of basalt (lava) or ash – younger than rocks below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ru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gneous rock that hardens beneath the surface – sills, dikes, batholiths – younger than rocks it cuts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04920" y="762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ul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eaks in the Earth’s crust, always younger than the rocks the fault break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Unconform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 gap in the geologic record caused by ero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dex foss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 widely distributed fossil organism that existed only brief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2862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33520" y="762120"/>
            <a:ext cx="4647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 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organism (an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plant) 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ly buried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iment is compa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cemented i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imentary r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&amp; ero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expose fos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39092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04920" y="38088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fossi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ld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low area in sediment in the shape of an organism (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 o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s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olid copy of the shape of an organism (opposite of mol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ld is filled with minerals and sedi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etrified foss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inerals replace organisms tissue, organism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trified – turned to st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rbon film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film of carbon in the shape of the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ace fossil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of the activities of organisms, like preserved tracks or pr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eserved remai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tual remains preserved relativ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hanged, like a fly trapped in 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4111920" cy="32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4857480" cy="3000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21932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ssil m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173640" y="32767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ssil 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8472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876400" y="3200400"/>
            <a:ext cx="6191280" cy="3486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26680" y="33526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ce foss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28200" y="274320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rved rem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152280"/>
            <a:ext cx="8534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s who study fossils are called paleont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 record: all of the information that scientists have gathered about past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 record is evidence of past climates –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ains of tropical organisms have been found in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arc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 record is evidence of how organisms change over time – how they evol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s occur in a particular order – older rocks contain fossils of simpler organisms, younger rocks contain fossils of more complex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85840" y="538200"/>
            <a:ext cx="85723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762120" y="6094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R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ve age: the age of a rock compared to the ages of other rocks (which rocks are older, which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762800" cy="357192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8"/>
          <p:cNvGrpSpPr/>
          <p:nvPr/>
        </p:nvGrpSpPr>
        <p:grpSpPr>
          <a:xfrm>
            <a:off x="5334120" y="2743200"/>
            <a:ext cx="3504960" cy="2246400"/>
            <a:chOff x="5334120" y="2743200"/>
            <a:chExt cx="3504960" cy="2246400"/>
          </a:xfrm>
        </p:grpSpPr>
        <p:pic>
          <p:nvPicPr>
            <p:cNvPr id="61" name="Picture 5" descr=""/>
            <p:cNvPicPr/>
            <p:nvPr/>
          </p:nvPicPr>
          <p:blipFill>
            <a:blip r:embed="rId2"/>
            <a:stretch/>
          </p:blipFill>
          <p:spPr>
            <a:xfrm>
              <a:off x="5334120" y="2743200"/>
              <a:ext cx="3504960" cy="7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"/>
            <p:cNvPicPr/>
            <p:nvPr/>
          </p:nvPicPr>
          <p:blipFill>
            <a:blip r:embed="rId3"/>
            <a:stretch/>
          </p:blipFill>
          <p:spPr>
            <a:xfrm>
              <a:off x="5334120" y="3478680"/>
              <a:ext cx="3504960" cy="7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7" descr=""/>
            <p:cNvPicPr/>
            <p:nvPr/>
          </p:nvPicPr>
          <p:blipFill>
            <a:blip r:embed="rId4"/>
            <a:stretch/>
          </p:blipFill>
          <p:spPr>
            <a:xfrm>
              <a:off x="5334120" y="4214520"/>
              <a:ext cx="3504960" cy="77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3T15:49:02Z</dcterms:created>
  <dc:creator>CO-03017689</dc:creator>
  <dc:description/>
  <dc:language>en-US</dc:language>
  <cp:lastModifiedBy>CO-03017689</cp:lastModifiedBy>
  <dcterms:modified xsi:type="dcterms:W3CDTF">2016-04-13T16:17:24Z</dcterms:modified>
  <cp:revision>4</cp:revision>
  <dc:subject/>
  <dc:title>Fossil Notes</dc:title>
</cp:coreProperties>
</file>